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7D4-9335-4AAC-8F1D-AC4AA64B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86E-CA0B-4301-9F5E-4C256BAE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18A-DD28-4E4E-BBAD-877014F2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118-355A-4DCC-B2EF-A4BB6C58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5C26-F591-4F19-9E5A-25AEBCA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EB51-349A-4D41-8A7E-4EBB8CFB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24D8-CD1C-49FD-BCC4-37CDF8D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C00-9FED-4421-BC83-F12A8646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D478-6608-40CC-BE38-7DE1C99B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3AF7-E2C1-4EC2-90AF-968FB4A6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A9B6-7E30-446B-A843-BFC6C02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6FD-7906-419A-85DD-5716F593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E253-AB55-4786-96E7-2F036196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07D7-774A-4DEC-866E-212079F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5257-5747-45D8-A809-CFB321E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2FD2-A681-4015-A624-DE36B3D0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41C4-C2EE-494D-8059-7BA43914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301-FE0A-4259-BB7F-50415E61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3E9-29FF-4485-BD08-C6818A9B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DF7-49CE-474A-BADE-26D59C4E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EDD-E74B-4B72-B16F-0E5C9C4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F96-5F4D-45FB-B3F6-AB8DDE04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840-A76C-405B-ACC9-D27B47EB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239-5848-4230-9C1F-D889FECB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959-160F-4561-B70B-CA7B91B0DD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1500-3FCB-47F8-9221-EC5180B2D1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thods of Teaching:  Direct Teaching    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7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01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blem Based Learning  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 P. 8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thods of Teaching:  Inductive Thinking 3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9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operative Learning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9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hods of Teaching:  Role Playing  5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10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hods of Teaching:  Simulation    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10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38:42Z</dcterms:created>
  <dc:creator>Spalding</dc:creator>
  <dc:description/>
  <dc:language>en-US</dc:language>
  <cp:lastModifiedBy>Spalding</cp:lastModifiedBy>
  <dcterms:modified xsi:type="dcterms:W3CDTF">2009-01-26T19:46:10Z</dcterms:modified>
  <cp:revision>2</cp:revision>
  <dc:subject/>
  <dc:title>Methods of Teaching:  Direct Teaching     1</dc:title>
</cp:coreProperties>
</file>